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B0F-430D-4E17-89E4-2C86B6DA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BED-E20C-4F9D-848B-18A13BE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117-ACFB-45EC-BF04-09881E39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CC4-9062-4803-93B7-7FEBD710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41E4-5FF3-4B4A-A732-AB6DC5B8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685B-F159-4A55-92BC-1937D2E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0CF-389B-443C-9E55-32B5093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F8DE-FFAE-497C-A3B5-05498906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8EB8-7A3A-434F-8D3C-C296F9A8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2A9A-8DDF-4D19-83D5-4168EDF9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A052-A275-4D86-A969-ECA5A48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A18-30EA-4C0F-AA50-1C72AFF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858B-B377-4B04-B3E3-270D72B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DD0F-516F-4936-B5D3-3980116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52AF-3029-43B0-B1AF-B6111A1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161-9AEE-4637-AAE5-6A7EE113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075-0254-4EE2-A00F-937C681B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2AD0-BD9D-429E-BDCD-052D271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3EA5-E510-4BD7-A9B5-5A4469D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7B8B-13D4-4FAF-A6BA-69292130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C2E3-176B-4854-9AF6-E95B93E7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05D2-0AE2-4B40-9BA0-869080B7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54F-E23E-4F84-A9AE-EF6D9CE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7FCC-7BF3-428C-909E-9888711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A83A-77DB-42C8-93D7-2C74417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0983-4F68-4582-9F81-4DAA335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7BA2-1827-432E-94A9-B13CDA2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4E40-079E-4595-97F3-30DF9BA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3198-AF13-487A-AB9F-1BE6651F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9E8A-BFCE-45E7-BD7E-D79888F5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28B7-9E05-4552-BBE1-150B2372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D252-18DC-40FC-93C7-660A364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6033-0B89-407A-8707-EBB3DAD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2BA-2FF4-4456-8D01-11CB1D5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F06C-77DA-45CD-8976-8C7F508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E50D-53A3-46C8-95CF-06CFA1E7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8E33-091C-4D02-A7A5-7977E0E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E5B3-F97B-4AFD-ADF3-2DDAAC0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142C-DB74-4600-A5DC-ACC6503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999D4-502F-4F79-976C-3BFA64D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E8AD-363A-4CAD-BAA1-7BA2EE5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FC1C-FE29-473E-A22F-6B4B68C5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30A0-5EAD-49DB-8C61-0B65C18E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9FCD-EF59-41CE-AF1E-C597C8A1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469-695A-47A6-9342-2F944E6D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4896-DADE-4CC4-84C0-A4509CE9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0A28-BCD3-43EB-B3DB-BAF378C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8FAA-6A88-4BF0-9A94-A30480F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AE57-882D-4BE2-8F71-5FEA98C6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ED2F-8D12-4835-959C-A4CB9F9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F9CD-FC84-40AB-B3D9-0E39577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B90C-7FAF-4DC1-9BF2-F88BA4D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F083-8F20-438E-9356-46FB402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2494-FDDF-4788-B38F-5191C58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C53D-3B91-4A5C-AC0B-0DD4186C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661-AF1B-42ED-8374-E98F05D5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D363-48A7-4CDC-ABE4-FCF1C36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33C-3D67-43BA-BFDC-D98ADCA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E2D-B8AF-430F-AC6E-0E59C43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F95-7681-4E6F-AEE0-5EFEE25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9CB-8E31-49EC-84B1-1D808F66D0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7C4-BE73-4FB2-9BDA-2D1BC43278C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CC45-4F22-456E-A221-B335A9D7D4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6833-964B-41E8-9DD8-4CE5C142CC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3BB-E5DA-4233-95B2-AB75AF74421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STANDING HOTEL ORGANIZATIONS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8" descr="j0308362[1]"/>
          <p:cNvPicPr/>
          <p:nvPr/>
        </p:nvPicPr>
        <p:blipFill>
          <a:blip r:embed="rId1"/>
          <a:stretch/>
        </p:blipFill>
        <p:spPr>
          <a:xfrm>
            <a:off x="6500880" y="385776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Sales and Marke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dividual sales manager in charge of corporate accounts, conventions, tour and travel marke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ow intradepartmental interdepend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Human Resources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ists of employee recruitment, benefits administration, training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Accoun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pares payroll, manages accounts receivables, accounts payables, handles purchases and cost controls, store room operations, night au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ngineering and Secu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pairs, maintenance, guest security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otel Functional Organizational Desig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2989800" y="3143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497880" y="1928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Straight Arrow Connector 9"/>
          <p:cNvCxnSpPr/>
          <p:nvPr/>
        </p:nvCxnSpPr>
        <p:spPr>
          <a:xfrm>
            <a:off x="4929120" y="3142800"/>
            <a:ext cx="121536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6" name="Straight Arrow Connector 10"/>
          <p:cNvCxnSpPr/>
          <p:nvPr/>
        </p:nvCxnSpPr>
        <p:spPr>
          <a:xfrm flipH="1" flipV="1">
            <a:off x="5000040" y="3499560"/>
            <a:ext cx="114372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7" name="TextBox 13"/>
          <p:cNvSpPr/>
          <p:nvPr/>
        </p:nvSpPr>
        <p:spPr>
          <a:xfrm>
            <a:off x="2733840" y="2071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6072120" y="3071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469080" y="4429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ierge / Bell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0" name="Straight Arrow Connector 16"/>
          <p:cNvCxnSpPr/>
          <p:nvPr/>
        </p:nvCxnSpPr>
        <p:spPr>
          <a:xfrm>
            <a:off x="2356920" y="2500200"/>
            <a:ext cx="1001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71" name="Straight Arrow Connector 18"/>
          <p:cNvCxnSpPr/>
          <p:nvPr/>
        </p:nvCxnSpPr>
        <p:spPr>
          <a:xfrm flipH="1" flipV="1">
            <a:off x="1928520" y="2500200"/>
            <a:ext cx="100080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2" name="TextBox 21"/>
          <p:cNvSpPr/>
          <p:nvPr/>
        </p:nvSpPr>
        <p:spPr>
          <a:xfrm>
            <a:off x="5247360" y="36432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n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3" name="Straight Arrow Connector 23"/>
          <p:cNvCxnSpPr/>
          <p:nvPr/>
        </p:nvCxnSpPr>
        <p:spPr>
          <a:xfrm flipH="1">
            <a:off x="2714040" y="3786120"/>
            <a:ext cx="929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  <p:cxnSp>
        <p:nvCxnSpPr>
          <p:cNvPr id="274" name="Straight Arrow Connector 26"/>
          <p:cNvCxnSpPr/>
          <p:nvPr/>
        </p:nvCxnSpPr>
        <p:spPr>
          <a:xfrm flipV="1">
            <a:off x="4714560" y="2214360"/>
            <a:ext cx="857880" cy="7862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5" name="TextBox 32"/>
          <p:cNvSpPr/>
          <p:nvPr/>
        </p:nvSpPr>
        <p:spPr>
          <a:xfrm>
            <a:off x="5333760" y="157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5657760" y="2071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7" name="Straight Arrow Connector 36"/>
          <p:cNvCxnSpPr/>
          <p:nvPr/>
        </p:nvCxnSpPr>
        <p:spPr>
          <a:xfrm flipH="1" flipV="1">
            <a:off x="6714360" y="2285640"/>
            <a:ext cx="857880" cy="7149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8" name="TextBox 43"/>
          <p:cNvSpPr/>
          <p:nvPr/>
        </p:nvSpPr>
        <p:spPr>
          <a:xfrm>
            <a:off x="5969880" y="4929120"/>
            <a:ext cx="165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und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9" name="Straight Arrow Connector 48"/>
          <p:cNvCxnSpPr/>
          <p:nvPr/>
        </p:nvCxnSpPr>
        <p:spPr>
          <a:xfrm flipH="1">
            <a:off x="7071480" y="3785760"/>
            <a:ext cx="786600" cy="10724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Content Placeholder 3" descr="Branson Hotel The Grand Oaks Deluxe 2 Queen Beds Housekeeping.jpg"/>
          <p:cNvPicPr/>
          <p:nvPr/>
        </p:nvPicPr>
        <p:blipFill>
          <a:blip r:embed="rId1"/>
          <a:stretch/>
        </p:blipFill>
        <p:spPr>
          <a:xfrm>
            <a:off x="2055960" y="9288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ve basic lodging business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Con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j0322381[1]"/>
          <p:cNvPicPr/>
          <p:nvPr/>
        </p:nvPicPr>
        <p:blipFill>
          <a:blip r:embed="rId1"/>
          <a:stretch/>
        </p:blipFill>
        <p:spPr>
          <a:xfrm rot="8667600">
            <a:off x="5508360" y="2944080"/>
            <a:ext cx="24480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Operat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ood to have been the first type of lodging management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el is run by an owner and the owner’s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popular Bed and Breakfast hotel is considered 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68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Manag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hired additional (non-family) personnel to help with the running of the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management is in the hands of the owner, but day to day operations can be in the hands of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depend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no role or management in day to day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dependent group of managers are responsible to the owner for the hotel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is not chain affili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provides standard operating procedures and guidelines to maintain a consistent level of quality and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has limited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expect to pay in the range of $90,000 to $150,000 in initial fees for a first-class hotel franchise like Hilton‘s Homewood Su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sts typically include royalty fees, reservation fees, marketing fees, frequent traveler fees, and miscellaneous charges for items like training or commissions. These numbers are calculated assuming a 300-room hotel with 60% occupancy for the first year, so actual costs can vary. Total costs over ten years can run as high as $10 million or m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with the best relationships with their franchisors reported gross operating profits per room (GOPAR) of $12,400, which translates to over $3.2 million per year in a 300 room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 Franchises: Marriott (Ritz Carlton), Hilton, Four Seasons, Park Plaza, Holiday I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al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and Staff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and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nagement Contr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hain maintains a high level of control as the chain operates the hotel on the owner’s behal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hotel companies offer both franchises and management contra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fees are paid as a % of reven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evenues, Profits and Cost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0" name="Picture 4" descr="http://www.fotosearch.com/bthumb/FSC/FSC044/x10709781.jpg"/>
          <p:cNvPicPr/>
          <p:nvPr/>
        </p:nvPicPr>
        <p:blipFill>
          <a:blip r:embed="rId1"/>
          <a:stretch/>
        </p:blipFill>
        <p:spPr>
          <a:xfrm>
            <a:off x="1857240" y="954000"/>
            <a:ext cx="5143680" cy="357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enue 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revenue source is the result of a product or service a hotel makes available to guests for a pr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eeping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eting / Function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lets / Ancillary Revenue 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Roo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eeping room is the most profitable of all of the hotel’s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leeping room is an accommodation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ce of each of these unit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ccupa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easurement of how many rooms are sold each night verses how many rooms the hotel has to s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5 rooms sold of 100 room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5% occupan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eeting/Function 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incorporate the revenue source of non-sleeping rooms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rooms, or function rooms are used for any type of group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venue sources from meeting/function space comes fro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Selling space for a specified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roviding food and beverage service in the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8d3e"/>
                </a:solidFill>
                <a:latin typeface="Verdana"/>
              </a:rPr>
              <a:t>Outlets/Ancillary Revenue Sources</a:t>
            </a: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l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ood and beverage point of s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cillar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 are revenue sources outside of sleeping rooms or food and beverage such as gift shops or spa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fit Margin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sleeping room is the most profitable portion  of all hotel products because of profit marg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margin is determined by comparing sales revenue verses the costs incurred in providing a product or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 cost analysis looks at what it costs the hotel to keep a room running in relation to what it is sold for to the gu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71720" y="1785960"/>
          <a:ext cx="6769080" cy="2660760"/>
        </p:xfrm>
        <a:graphic>
          <a:graphicData uri="http://schemas.openxmlformats.org/drawingml/2006/table">
            <a:tbl>
              <a:tblPr/>
              <a:tblGrid>
                <a:gridCol w="2255760"/>
                <a:gridCol w="2257200"/>
                <a:gridCol w="225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/L/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ineering (Internal structure mainten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nds Maintenance (Grounds surrounding build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t service of owners marketing (Local effo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ment Costs (Inc. franchise or management contract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 Oblig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BC Hotel sells a room for an average of $150 per night. The cost incurred in preparing each room for sale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.00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usekeep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9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Groun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5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t service of ow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0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co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7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porate obliga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axes, et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2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1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is to the actual cost to the price sold (room rate) and the room cost can be determined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st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ctual Co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  31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.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 – Room Cost = Prof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on misconception in the hospitality industry is to consider food sales as profitable as room sales. This is not th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is the cost of a particular food item in relation to the price for which it is s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simply, the food cost percentage is the percentage of the profit taken up but the actual cost of the i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274680" y="353880"/>
            <a:ext cx="858816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for determining the cost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= Purchase Price / Menu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te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urchase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nu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ood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a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22.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ick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3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7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esar Salad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.99/ea.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 9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ight when a room goes unsold the hotel loses that opportunity to ever sell it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Empty Room Theory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at once a room goes unoccupied, it is gone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C Hotel has 400 sleeping roo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Cos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it Marg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leeping Ro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20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aily maximum room profit potential i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48,000  ($120x4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ek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$336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th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$1,40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ear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$17,52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7,520,000 is the maximum potential room profit that ABC Hotel could make in a year. Each unoccupied room subtracts from that number. It is easy to understand why hotel operators focus so much attention on occupan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ptive Audience Quoti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ive audi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guests who are staying at the hotel who will utilise the outlet in the hot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ive audience quotients apply to both outlet/ancillary sales and catering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catering contribu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atering business acquired by a hotel that has all, or a large percentage of, the attendees staying at the hotel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ke most service related organizations, hotels are divided between LINE functions and STAFF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215040" y="4000680"/>
            <a:ext cx="2317680" cy="19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fotosearch.com/bthumb/IMZ/IMZ004/shu0103.jpg"/>
          <p:cNvPicPr/>
          <p:nvPr/>
        </p:nvPicPr>
        <p:blipFill>
          <a:blip r:embed="rId2"/>
          <a:stretch/>
        </p:blipFill>
        <p:spPr>
          <a:xfrm>
            <a:off x="500040" y="4071960"/>
            <a:ext cx="24400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ine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1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functions are the tasks assigned to employees that bring them in regular contact with gue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operations in a hotel are the Rooms Division &amp; Food and Beverage Div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employees are hands-on participants in the assembly and delivery of the hotel’s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176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las col 3.jpg"/>
          <p:cNvPicPr/>
          <p:nvPr/>
        </p:nvPicPr>
        <p:blipFill>
          <a:blip r:embed="rId1"/>
          <a:stretch/>
        </p:blipFill>
        <p:spPr>
          <a:xfrm>
            <a:off x="6286680" y="1285920"/>
            <a:ext cx="2342880" cy="1514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ROOMS DEPARTM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42884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forms the lodging function of a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ludes Front Office and House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sks per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rooms to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ain status of room (available or vacant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mail / phone messages for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ain security &amp; cleanliness in rooms and public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swer guests’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ose coordination needed by all subun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OOD AND BEVERAGE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ood and beverage for g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include coffee shop, restaurant, poolside snack bar, room service, banquet, function rooms, lobby bar, nightclub / disco, room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s banquet and catering services for events in the ho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chef.jpg"/>
          <p:cNvPicPr/>
          <p:nvPr/>
        </p:nvPicPr>
        <p:blipFill>
          <a:blip r:embed="rId1"/>
          <a:stretch/>
        </p:blipFill>
        <p:spPr>
          <a:xfrm>
            <a:off x="2643120" y="4143240"/>
            <a:ext cx="3214800" cy="215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Food and Beverage Department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sts of kitchen (food preparation) and F&amp;B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s individual F&amp;B outlets – restaurants and coffee shop etc (each managed by a manag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ll service hotels have convention and catering sub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warding subunit does the purchasing,cleaning and washing, expediting and arranging facilities for food and be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taff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7600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functions are those behind the scenes activities that support the line functions and have little contact with gues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Engineering, security, human resources, marketing, ac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http://www.fotosearch.com/bthumb/IMZ/IMZ004/shu0103.jpg"/>
          <p:cNvPicPr/>
          <p:nvPr/>
        </p:nvPicPr>
        <p:blipFill>
          <a:blip r:embed="rId1"/>
          <a:stretch/>
        </p:blipFill>
        <p:spPr>
          <a:xfrm>
            <a:off x="6286680" y="4143240"/>
            <a:ext cx="2428560" cy="192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01T12:50:55Z</dcterms:modified>
  <cp:revision>59</cp:revision>
  <dc:subject/>
  <dc:title>FRONT OFFICE OPERATIONS MANAGEMENT</dc:title>
</cp:coreProperties>
</file>